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742-D9F3-40C5-805E-8F24E236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91A-78AC-477A-86F3-D462D0B3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5F16-6E5E-4DE3-96DB-DE252CFB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655-DD40-4734-99E5-FE840C25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998-215B-4934-9087-9AB18205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D2E9-8432-497B-9EE8-05BC0BA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38C4-26B3-44D9-BC2C-41B817B5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6E7-58AD-4FD3-BF5B-63AA903D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F81A-308A-471B-9C98-199B7148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8991-FBD9-473C-B747-44C09747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7D5C-1E4B-4BED-8E58-A16FC0E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C7C-45B5-40FC-916C-B4547E44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A916-4CDD-4DFB-A5ED-24803BDA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AB9E-A5D4-431C-8370-31845EE8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D72B-C8B4-43A5-AD2D-8993F03B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95B-BD98-41C0-B8C9-5008885E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6A04-B552-4ED2-8CE7-EA6BC186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F22-0585-4235-942C-0D5ECE8A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565-B49B-4B44-91C4-B974AE43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82B-F41F-45E3-AB73-32B6450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65F8-B6A8-4D35-B8F4-334B1FF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449-9849-4D58-9ADE-7A1CE89F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A6A-D7B5-477A-8781-37617998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CAA-989F-49F1-8879-ABEC2211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F77-7825-4DA2-8686-98A9E6730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845C-B4CD-4110-BB78-C50815B4CE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5400" spc="-1" strike="noStrike">
                <a:solidFill>
                  <a:srgbClr val="330033"/>
                </a:solidFill>
                <a:latin typeface="Papyrus"/>
              </a:rPr>
              <a:t>Don’t Give Up the Ship”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pyrus"/>
              </a:rPr>
              <a:t>The War of 18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9960" y="6172200"/>
            <a:ext cx="47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lizabeth A. Pilla, Fontbonne Acade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Mr. Madison’s War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easily won election in 1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Jefferson left him with Non-Intercourse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no trade with Britain or France until they rescinded orders against American shi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con’s Bill No. 2 passed 1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rade resumed but could reimpose embargo against country not agreeing to stop interfering with American shipp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Mr. Madison’s War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poleon repealed orders against American shi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ritain did not and continued impr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dison reimposed embargo on Britain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14349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400,000 white settlers west of Appalach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Indian population dec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assimilation (loss of cul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civilization” (assuming white ways of lif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Creek, Chero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Major Ridge, John 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Papyrus"/>
              </a:rPr>
              <a:t>nativism” (eliminate European influences, resist further white encroachment on Indian 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enjamin Hawk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Superintendent of Indian Affairs 1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romoted “civilization” among In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supplied Indians with agricultural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arried a Creek wo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Op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2133720" cy="1762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667480" cy="3701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318760" y="601992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Hawkins trading with the Creek Ind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Revive Indian life and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Creek, Cherokee, Shawnee, Iroqu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ndsome Lake (Sen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moral life, education, far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o direct challenge to 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24480" y="335268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enskwatawa (“The Prophet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Shawn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separate from whites (source of all ev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ject all American goods and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vive traditional Indian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resist federal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home at Prophetstown, Indiana destroyed by William Henry Harrison in Battle of Tippecano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66076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ndian “Age of Prophecy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Tecumseh (brother of Tenskwataw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Indians of Mississippi Valley must u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lternative was extermination by wh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 common and equal right in the la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advocated attacks on American frontier settl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became general in British 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pyrus"/>
              </a:rPr>
              <a:t>killed 1813 at Battle of the Thames (Detroit), Harrison’s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867280" y="1676520"/>
            <a:ext cx="2276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urse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urse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3373200" cy="2760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035160" cy="277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31080" y="502920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97560" y="617220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nsequenc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onsequenc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 wooden-hulled, three-masted heavy fri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med by President Washington after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aul Revere worked on her brass fi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 world's oldest floating commissioned naval vessel (179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uilt in Bo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provided protection for American merchant shipping during the quasi-war  with France and Eng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ought against Barbary pi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266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“</a:t>
            </a: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Old Ironside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46160"/>
            <a:ext cx="80010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ought in War of 1812, captured numerous merchant ships and defeated five British warships, including HMS Guerr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n 1997 she sailed again under her own power for her 200th birth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Papyrus"/>
              </a:rPr>
              <a:t> Constitution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's mission today is to promote understanding of the Navy’s role in war and peace through educational outreach, historic demonstration, and active participation in publ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erthed at Pier 1 of the former Charlestown Navy Yard at one end of Boston's Freedom Tr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22669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400720" cy="389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42760" y="5829480"/>
            <a:ext cx="55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Madison punching John Bull (England) in the 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601800" cy="4624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39840" y="6286680"/>
            <a:ext cx="68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Francis Scott Key looking across at the flag over Fort Mc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Images of the War of 1812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886360" cy="3703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608840" y="571500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pyrus"/>
              </a:rPr>
              <a:t>Naval battle between England and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aus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harrassment of American shipping by Britain and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impressment of Americans by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British incitement of the Indians on the fro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00400" y="5057640"/>
            <a:ext cx="2543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Papyrus"/>
              </a:rPr>
              <a:t>Causes of the Wa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merican land hu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American eyes on Canada and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war hawks” (Clay and Calhou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national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pyrus"/>
              </a:rPr>
              <a:t>free trade (needed by agrarian republ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3493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30:02Z</dcterms:created>
  <dc:creator>epilla</dc:creator>
  <dc:description/>
  <dc:language>en-US</dc:language>
  <cp:lastModifiedBy>epilla</cp:lastModifiedBy>
  <dcterms:modified xsi:type="dcterms:W3CDTF">2011-03-24T22:02:13Z</dcterms:modified>
  <cp:revision>11</cp:revision>
  <dc:subject/>
  <dc:title>The 1950s</dc:title>
</cp:coreProperties>
</file>